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75B8-3007-4759-AB36-AA2D3DD8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BAD-7052-49F9-8465-80199BE5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271-69AB-4DF2-B24D-3E7B014A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A4E3-D92D-48FC-8039-1EE011A1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B4C7-4CD9-481E-A583-8B0071FE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AA02-AA11-4953-A749-0C91C5CA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8381-80F1-41C0-BD85-090D862A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5B82-F9D3-403B-89EF-3D1E416E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57FB-E553-4061-A72D-7DF7352F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8E2F-7FF2-4AEE-BA2D-1D2FECEF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1B33-E388-4961-A021-E4E4345D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4AF8-422C-4E55-AADC-4B2B8DCE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43F9-F908-4046-8A34-7457E3A6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338F-9605-4B35-BCEA-908363C6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BA2B-1E73-4A00-B7CE-3A27913A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C335-21FD-4FD6-9149-5708AD6D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5666-D8FB-4439-9BCC-EB82B2EA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225-8F31-4890-9F6D-86AF3D55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E3E7-A3AD-4369-BC07-7B415E2D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5EF-DEC3-4A80-82A3-FD83D142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CC6-1F74-4ACB-B48C-51487C64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367-BBCA-4737-BD3F-90FBE3DD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185-7476-464B-9C76-7ED0D79C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9E23-08DB-4451-ACF4-FCD7B43B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401B-21E8-494D-94CB-902A3B8DFE6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5076-E1F5-46C3-A315-BE6A2FA8025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Meine Reise nach Deutschland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atja Gehris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utsch I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rcRect l="0" t="19237" r="17817" b="6212"/>
          <a:stretch/>
        </p:blipFill>
        <p:spPr>
          <a:xfrm>
            <a:off x="304920" y="1143000"/>
            <a:ext cx="5657760" cy="45259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596320" y="6019920"/>
            <a:ext cx="47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Wir gehen von Chicago über Polen, zu Berl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24075" t="35360" r="33334" b="29291"/>
          <a:stretch/>
        </p:blipFill>
        <p:spPr>
          <a:xfrm>
            <a:off x="533520" y="1447920"/>
            <a:ext cx="5790960" cy="26431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378080" y="5518080"/>
            <a:ext cx="68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Ich ging zum Musical Theater dann auf die jüdische Meus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rcRect l="0" t="18521" r="0" b="5719"/>
          <a:stretch/>
        </p:blipFill>
        <p:spPr>
          <a:xfrm>
            <a:off x="228600" y="228600"/>
            <a:ext cx="85345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696ca"/>
                </a:solidFill>
                <a:latin typeface="Arial"/>
              </a:rPr>
              <a:t>Ich bin zu Besuch in Berli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Ich besuchte die Berlin Wall mit meiner Mutter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Ich besuchte die Berliner Dom (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us dem 19. Jahrhundert)</a:t>
            </a:r>
            <a:r>
              <a:rPr b="0" lang="de-DE" sz="2000" spc="-1" strike="noStrike">
                <a:solidFill>
                  <a:srgbClr val="ffffff"/>
                </a:solidFill>
                <a:latin typeface="Verdana"/>
              </a:rPr>
              <a:t>nachdem die Berlin Wal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ch besuchte die Gendarmenmarkt. (Gendarmenmarkt neben dem Konzerthau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ch besuchte die Zoologischer Garte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ch besuchte die  Antiquitatenmei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rcRect l="65628" t="27343" r="5624" b="23438"/>
          <a:stretch/>
        </p:blipFill>
        <p:spPr>
          <a:xfrm>
            <a:off x="762120" y="1371600"/>
            <a:ext cx="3504960" cy="48006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4498920" y="2057400"/>
            <a:ext cx="42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unserm Hotel gibt es das Restauran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s Café, Frei Frühstück und Frei Wif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79360" y="3384720"/>
            <a:ext cx="37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Ich war über Nacht in der Host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$3,700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$837.60 (flight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$214.24 (hote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$43.44 (bus ticket/ City Circle Tour And River Circle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=$2604.7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31:59Z</dcterms:created>
  <dc:creator>CUSD220</dc:creator>
  <dc:description/>
  <dc:language>en-US</dc:language>
  <cp:lastModifiedBy>sgehrisch</cp:lastModifiedBy>
  <dcterms:modified xsi:type="dcterms:W3CDTF">2012-01-09T04:55:13Z</dcterms:modified>
  <cp:revision>4</cp:revision>
  <dc:subject/>
  <dc:title>Slide 1</dc:title>
</cp:coreProperties>
</file>